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E340-0655-4012-9871-DE7BBD77D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CABC-B771-4DF3-B3A6-7CA053C52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AEF1-777B-4BCD-AF0B-FC60E82F1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E0AD-4F41-4124-96D9-46FD4C9C6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105A-3255-4758-BA12-C2FF6E8F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3348-83D1-445F-99DA-04F46AFE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6AA6-6B5D-4516-B113-FD740E652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8900-EF7B-460A-9D66-459B4D695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DE3B-512F-4B92-BC91-E10AD2CCB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60ED-2C93-48BD-8491-8A99582D6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7B15-43E5-4971-9E65-ABC179CBB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32F7-E865-4FEE-B467-D320F88D5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819C-0AA5-4024-89B6-1ACD418A9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D891-345B-460B-A702-87AFE3AED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FEA2-4AB0-4885-8424-D0F4E8891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9557-09EC-4B2F-8908-E19022543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7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ФАРМАКОЛОГИЈА ХОРМОНА ХИПОТАЛАМУСА И ХИПОФИЗ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2000" y="5286240"/>
            <a:ext cx="657216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хајло Јаковљ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724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Тиреоидни хормони и антитиреоидни лекови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цај лекова на биохемијске маркере функције штитасте жлезде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2000" y="5286240"/>
            <a:ext cx="657216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хајло Јаковљ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сновне сврхе хормоналне 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снижене функције неке ендокрине жлезде – надокнада мањка датог хормона (додавање Г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ивање прекомерне функције неке ендокрине жлезде (аминоглутетим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онални дијагностички тестови (давање ТС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неендокриних обољења (кортикостероиди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Штитаста жл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ога у контроли општег баланса катаболизма (сагоревања) и анаболизма (синтезе) посредством утицаја на активност великог броја гена и следствено кључних метаболичких енз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ојни значај за раст тела и сазревање мозга синхроно са хормоном раста и инсулином током детињ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 хипотиреоидизма – сниженог лучења Т3 и Т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ална надокнада хормона добијених синтетским путем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вотироксин натријум - Т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отиронин натријум – Т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отрикс (4:1 мешав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диционално добијани млевењем осушених анималних жлезда, данас углавном синтетски – нижа стопа алергијских реакција и поузданије дози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 хипертиреоидизма – повећаног лучења Т3 и Т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 хируршке и радијационе аблације дела ткива жлезде имамо и фармаколошке процедуре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диактивни јод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изотоп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 изазива некрозу ткива , тешко одмерити дозу јер често наступа касни јатрогени хипотиреоидизам или је ефекат непотп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иоамиди / Тиоуреилени – инхибиција синтезе хормон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ремете пероксидазу која врши органификацију јода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карбимазол.метимазол.пропилтиоураци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Јонски блокатори преузимања јод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тиоцијанат и перхлор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ена адренергичких бета блок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Јони литијума –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 ефекат супресије јодидима узроковане тиреотокси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ена соли јода и јодних контрастних средстава (РТ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Луголов раствор, јоподат, јопаноинска кисе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ојава и лечење тиреотоксичне олу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пранолол 1-2 мг интравенски + 40-80 мг пер ос - спречавање срчаних аритмија услед појачаног ефекта катехоламина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одид интравенски у циљу заустављања ослобађања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имазол или пропилтиоурацил у циљу заустављања даље синтезе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 Т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дрокортизон 50 мг интравенски , превенција циркулаторног ш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лиза - метод крајњег из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сто  хипоталамуса и хипофизе у хуманом моз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штићен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редишњ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оложај у еволутивно старом међумозгу, бочно и испод пода треће мождане комо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а жлезда смештена у коштаном “турском седлу” изнад клинастог синуса у геометријском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ентр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б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ипоталамус – мотор нагонског аутоматизма (глад,жеђ, матерински и нагон за размножавањ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у своју улогу остварује контролом ендокрине “осовине” или директним утицајем у вегетативном нервном систе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ојам хорм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рмон је биолошки активно једињење које ствара и лучи једно ткиво (ендокрина жлезда) и потом га ослобађа у крвоток да би посредством њега пренело “поруку” (остварило утицај) у удаљеним другим циљним тки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ормон је хемијски сигнал-сложена информација у ендокрином као што су неуротрансмитери у нервном и цитокини у имуном сист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 они одражавају природни начин уређења односа у вишећелијском еукариотском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сновне сврхе хормоналне 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пституција – надокнада мањка датог хормона (додавање Г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ивање прекомерне функције неке ендокрине жлезде (аминоглутетими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онални дијагностички тестови (давање ТС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е неендокриних обољења (кортикостероиди и аутоимунос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дукти секреције хипоталам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87080"/>
            <a:ext cx="4619520" cy="10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лобађајући” и “успављујући” фактори намењени хипофи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24480" y="2205000"/>
            <a:ext cx="46195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ормони пореклом из хипоталамуса ослобођени у регији неурохипоф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50920" y="3860640"/>
            <a:ext cx="461952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n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H / GR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H / PR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RH/M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24480" y="3789360"/>
            <a:ext cx="46195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ДХ – вазопре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сито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одукти секреције хипофи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S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фоликулогенеза , лучење естрог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H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настанак жутог тела јајника , лучење тестосте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H (STH)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општи раст посредством јетриних соматомедин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GF1 , IGF2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SH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стимулација тиреоид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лакт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лучење млека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стероидогенеза у кори надбубрежм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S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ланостимулирајући хорм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ска решења у примени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оматотропин / соматрем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патуљаст ра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оматостатин / октреоид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ромегалија, гигантизам , АПУД-оми , ГИТ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егвисоман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ГХ антагонист) - акромег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агонисти пролактин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допамински Д2 агонисти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омокриптин,карбеголид,перголид,квинаголи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активни аденоми хипоф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ортикотропин/косинтроп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ЦТ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само у дијагностиц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ска решења у примени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МГ – хумани менопаузални гонадотроп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замена з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С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лечење мушког/женског стерил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ЦГ – хумани хорионски гонадотроп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замена з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индукција ов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Гонадорелини (леупролид,нафарелин, госерелин,хистрел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– аналоз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nRH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дукција овулације/ јатрогена хормонална кастрација код хормон зависних тумора (ендометриоза , карциноми дојке и простат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ска решења у примени 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иротропин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(ТСХ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дијагностика и терапија потенцијално метастатског карцинома жлезде у комбинацији са 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активним ј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ДХ – вазопресин / липресин / дезмопрес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лечење диабетес инспидуса, крварења из варикозних вена једњ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кситоцин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 индукција порођаја , заустављање постпарталних крваре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нтагонисти окситоцина (атосибан)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венција спонтаног побачаја и превременог порођ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1:58:15Z</dcterms:modified>
  <cp:revision>32</cp:revision>
  <dc:subject/>
  <dc:title>Slide 1</dc:title>
</cp:coreProperties>
</file>